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A60-D944-4374-BF46-65BEBEA45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9CC6-CA4D-4D4E-AD3D-FB788E8D3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123-B056-4438-881F-91B49F8B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43A-BDB3-4BFD-B602-E3F150C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111-8651-4D20-8061-2C71593F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030-D82A-4158-B830-D1ED878C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7ED-4BD7-4256-9F46-668185B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D0C-0E8F-4E0F-A1D7-4302E6D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15C-408D-44BD-80AE-C651A393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452-9237-4394-B7F2-443A81D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8F1-76D3-4653-8C38-B157C57E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C23-016F-4751-BD99-74631A7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DCF-313C-43EE-AC51-305FE4D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A2F-FC43-45E0-8A37-3854D76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F6C-D55A-4B9D-94A4-809FA7883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second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09 Awakening.wma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8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1:53:37Z</dcterms:created>
  <dc:creator>john</dc:creator>
  <dc:description/>
  <dc:language>en-US</dc:language>
  <cp:lastModifiedBy>john</cp:lastModifiedBy>
  <dcterms:modified xsi:type="dcterms:W3CDTF">2010-01-17T22:55:45Z</dcterms:modified>
  <cp:revision>6</cp:revision>
  <dc:subject/>
  <dc:title>Slide 1</dc:title>
</cp:coreProperties>
</file>